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A93-44E5-4538-B5FE-E1A7FC3B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BFC-90E9-4DD6-BB01-BAC90DD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1BE-C9D5-4789-B0B7-0D5AE201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D51-684A-42B6-92E1-0B7C763C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C71-9645-4B23-82D0-5350578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64F-98D6-4523-BF9A-E5D3F95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A52-4520-410E-8973-F538D54C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8D0-C5EC-4660-A2F2-0A9FBDEE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5FC-2CAE-4ABA-92EE-D5AEEA76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6D7-5826-4EEA-AFC9-632AF318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4F3-B355-49A0-A192-4BE7AA3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E6D-B6BC-480B-ACBA-C7C6BC6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DB7A-84CF-4447-8016-369380FCE27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FRUMOSU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stetică, clasa a XII-a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Adrian Iorgulescu, Doina Pungă, Gheorghe Stroi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Categorie fundamentală a esteticii, frumosul reflectă însu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r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Calibri"/>
              </a:rPr>
              <a:t>i propriet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le naturii, vi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 socia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le cr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ilor umane capabile să trezească în personalitatea valorificatoare stări de satisfa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, emo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bucurie estetică, precum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ptitudini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înzestrările specifice ale fi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i ome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 generatoare a sentimentelor de plăcer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 admir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e. Frumosul oglindeşte deopotrivă ordinea lumii exterioare, obiective şi armonia trăirilor interioare, subiective, sociabilitatea şi individualitatea omului, îmbinând planul senzorialităţii afective cu cel al raţionalităţii lucide în efortul de a obţine o imagine globală unitară asupra condiţiei uman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 plan european, primele reflecţii asupra frumosului s-au ivit în orizontul spiritual elen. Întrebându-se „ce e frumos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”, Platon îl aprecia ca pe un lucru folositor, potrivit scopului său, făcut cu meşteşug şi care produce o plăcere recepţionată cu ajutorul văzului şi auzulu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el, ca şi pentru mulţi alţii, nu toate plăcerile sunt estetice, ci numai acelea care ţin de simţurile superioare, singurele apte să asigure o stare agreabilă, de desfătare spiritual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u trebuie să năzuieşti către orice plăcere, spunea Democrit, ci numai către plăcerea pentru ceea ce este frumo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şi de natură ideală, abstractă, plasat ca arhetip universal în zonele ideii pure, frumosul, afirma Platon, are strânse contacte cu binele, „identificându-se pretutindeni cu măsura şi proporţia”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rile de existenţă ale frumosulu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natural, asigurat de existenţa elementelor primordia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an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mic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e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uman, constituit d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corpului omenesc, alcătuită în principal din elemente naturale, native, dar şi dintr-o îndelungată şlefuire civilizatoar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sufletească, rezultat aproape integral al eforturilor de înnobilare uman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etică a vastelor relaţii dintre oamen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useţea ambientală a locului şi rezultatele muncii omeneşti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mosul artistic. Existenţa sa este asigurată […]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urile reflectării frumuseţii din realitate;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ăţile demiurgice ale omului de artă care, pornind de la lumea reală, făureşte o realitate nouă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2:49:49Z</dcterms:modified>
  <cp:revision>37</cp:revision>
  <dc:subject/>
  <dc:title>SALARIUL</dc:title>
</cp:coreProperties>
</file>